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12.png" ContentType="image/png"/>
  <Override PartName="/ppt/media/image7.png" ContentType="image/png"/>
  <Override PartName="/ppt/media/image4.pct" ContentType="image/x-pict"/>
  <Override PartName="/ppt/media/image11.png" ContentType="image/png"/>
  <Override PartName="/ppt/media/image6.png" ContentType="image/png"/>
  <Override PartName="/ppt/media/image3.pct" ContentType="image/x-pict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1B24-15B6-422D-9E11-11833CA8B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82EC-6B93-4EE1-A126-D2CD463A4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E4D1-0FC5-4C8F-9199-6BC76A521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9BA5-20A8-4F42-81B1-45269A9CF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28C5-E0A1-4F46-B19D-729B6BCFD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29C0-82D3-459F-AD0E-092AF52BC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4863-B161-43BC-AD12-B72FB202F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CE75-C2B6-46FA-B335-CA17BB4A7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-76320"/>
            <a:ext cx="6705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056D-B6CE-43A5-91DC-7FC1E28D2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F2A8-958D-49C9-B0D6-D9E0203FA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9162-4EBF-422C-A78C-FA57A8825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84C7-38A6-4399-B04A-625A076A1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8280" y="0"/>
            <a:ext cx="67057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14400"/>
            <a:ext cx="2438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438280" y="6324480"/>
            <a:ext cx="67057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24480"/>
            <a:ext cx="243828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38280" y="6400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Md BT"/>
              </a:rPr>
              <a:t>US DOE Joint Genome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2438280" cy="5257800"/>
          </a:xfrm>
          <a:prstGeom prst="rect">
            <a:avLst/>
          </a:prstGeom>
          <a:solidFill>
            <a:srgbClr val="c9c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9600" indent="-2840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9A6E-4011-4CC7-8BAE-1B54508BE86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JGI_logo_web1" descr=""/>
          <p:cNvPicPr/>
          <p:nvPr/>
        </p:nvPicPr>
        <p:blipFill>
          <a:blip r:embed="rId4"/>
          <a:stretch/>
        </p:blipFill>
        <p:spPr>
          <a:xfrm>
            <a:off x="0" y="0"/>
            <a:ext cx="243828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code.org/" TargetMode="External"/><Relationship Id="rId2" Type="http://schemas.openxmlformats.org/officeDocument/2006/relationships/hyperlink" Target="http://www.dcode.org/" TargetMode="External"/><Relationship Id="rId3" Type="http://schemas.openxmlformats.org/officeDocument/2006/relationships/hyperlink" Target="http://www.dcode.org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4529-3038-46BC-8038-4B3CAB9E82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cky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64990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848720" cy="1087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44197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ows manual curation of problematic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ew DNA sequence, splice sites and all 6 frames of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errors propagated by automated pipeline or error in 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ck Start, Stop and 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6FB2-9EC0-4752-B51F-C823DAE4A8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 or 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520" y="13712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iken mouse cDNA suggests that the human models in this region belong to a single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6705720" cy="462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3429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se mRNA (tblas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C007-D717-4F77-8555-6B05AD842A3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2"/>
              </a:rPr>
              <a:t>dcode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3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295280" y="1182600"/>
            <a:ext cx="7696440" cy="383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029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olutiona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ervation prof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, mouse, rat, chicken, frog, fugu, tetraodon, zebrafish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gen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931B-4AEF-4429-87F8-A7966436700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CTG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6520" y="114300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times CTG is used as the start instead of AT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DK10 has 2 isoforms in RefSeq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xed ORF most closely matches RefSe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5480" y="2819520"/>
            <a:ext cx="7023240" cy="23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5346720"/>
            <a:ext cx="5600880" cy="90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1523520" y="495288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952880"/>
            <a:ext cx="3505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3703-9608-46E3-87CE-F693072656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ameshift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920" y="44953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frame shift deletion in the genomic sequence results in poor matches to known prote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ch the known protein exact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how the actual 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pends on support for each scen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99172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181480" cy="117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221D-D87B-4E8A-BE28-EC7F7B5295F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verlapping divergent tran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920" y="38095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nly partially overlapping transcripts have very different CDS but share common ex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is exten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r19 genes are densely packed on both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03200" y="1371600"/>
            <a:ext cx="653760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EE32-39E2-49AD-B7A6-C1CE0F187CB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spl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7360" y="1488960"/>
            <a:ext cx="59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stinguishing incompletely processed mRNAs from splice vari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Retained intron interupts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fferences with RefSeq, possibly due to variation in pop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600" r="0" b="3843"/>
          <a:stretch/>
        </p:blipFill>
        <p:spPr>
          <a:xfrm>
            <a:off x="1244520" y="3200400"/>
            <a:ext cx="7365960" cy="27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F981-8B76-4805-8F41-7D6F83A5C8A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5943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abled gene that has an insult- stop or frameshift that interrupts or changes the ORF from the parent gen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morphic sites or transcripts indicate that locus activity may vary between individu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retro transposition of RNA into genomic DNA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ngle exon, polyA, lacks promotor/CpG, degraded cond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n-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duplication, subsequently disabled, possible to find parent reg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rally multi exon, promotor/CpG 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A07B-B942-444C-B0DE-325258B0790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cessed 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1077840"/>
            <a:ext cx="342900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2606760"/>
            <a:ext cx="380988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8320" y="2743200"/>
            <a:ext cx="380988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193824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971800" y="4114800"/>
            <a:ext cx="4705200" cy="22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3C3A-3D41-4EFF-823B-BEAF04F526E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GI Human Chromosome Ann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3,100-4,4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371600"/>
            <a:ext cx="66294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v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e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2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6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1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0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9-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5 - complete. Paper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6-completed First Pass, should be done in the next month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6E4D-90E7-4313-98E6-448CADB2DFF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29528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y: seek best automated models using a hierarchy of evidence.  Manually review high quality evidence (human mRNAs) for which no faithful models can be crea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fast as possi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45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D26C-3403-4404-9A22-DCBBEB508AA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knowledg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ot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rea Ae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eve Low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oel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urie Gord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y Tran-Gyamf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ry X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chael Alther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an Challacom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hy Cle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ina Thay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remy Schmutz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ee Man Ch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1123920"/>
            <a:ext cx="28954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ffe Helst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ayne Huang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avid Goodste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gor Grigoriev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 Ras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ean Caenap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saf Sala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saac H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ila Horn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ette Gre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Victor Solovyev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van Ovcharen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livier Couronn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amvir Deh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na Dubcha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isa Stubb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 Dan Rokhs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95AC-DEED-4954-90C6-746ADF59CAE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ne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7920" y="1143000"/>
            <a:ext cx="6705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ny gene families have known gene structures but lack extensive mRNA/EST evidence in hum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factory receptors (approximately 40 genes, as many as 150 pseudogenes) -- single exon, seven transmembrane recep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RAB-containing Zn fingers -- single KRAB domain near amino terminal, followed by typically one exon with multiple zinc fin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d several other fami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custom models using expected gene structure using automated method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tomatically identify pseudogenes, which are common in tandem gene famil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ch tandem families are hard to model ab initio, easy to run genes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2B6E-2850-47D8-8518-03B07372F0A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ficult 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90920" y="1371240"/>
            <a:ext cx="5867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NAi non-coding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ngle exon ge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ncodes 136 aa ORF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ocus supported by multiple mRNA and EST evide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ntisense to TRAP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2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o similarities to known proteins.</a:t>
            </a: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10800000">
            <a:off x="838080" y="4343040"/>
            <a:ext cx="777240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41AD-727A-48B1-B0C2-A78E2246A46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562A-08D4-41E5-8DA3-6F4968ADD01A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63600" y="1981080"/>
          <a:ext cx="48168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3600" y="1981080"/>
                    <a:ext cx="48168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666880" y="449568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run multiple non-dependent steps in 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ken into commands of varying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 100000s-1,000,000 cmds/jobs issued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7A49-DB37-42E9-AE69-D1EF241C6F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03160" y="1192320"/>
          <a:ext cx="79930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2320"/>
                    <a:ext cx="79930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D81C-96E2-4362-AAB5-1C3755087E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90560" y="1219320"/>
            <a:ext cx="655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p all human mRNAs in Genbank with BLAT against sequence scaffol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tempt to turn these mRNAs into faithful gen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pect coding sequence declared in Genbank, or use  longest ORF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ow canonical spl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T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9.6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C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…A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0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ag for review evidence for any single base indels (helps correct finishing erro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astx alignments of known protein Dbs, seed GeneWis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 inito model predictions using FgenesH++ and Gen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1E45-61A4-42C4-9910-7B9D5BC5CB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datasets &amp;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&amp; Human cD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cDNA set is large, and more Rat data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&amp; Rat IP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model using blastx alignments to seed GeneWi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tend with partial human mRNAs (ES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ertebrate mRNA is also a useful dataset for validation/confirmation but not essential (Primate data until recently has not been available in useful quantit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rst EF: First Exon Finder (M Zhang) vs CpG Isl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olutionary conservation (Vista, dcode, in-house too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76ED-478B-4C0C-BE0D-F948BD256E4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506600"/>
            <a:ext cx="8839080" cy="535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notation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2AB4-037D-4E4C-9F4E-4749C7F5D7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nctional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7920" y="10666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computed alignments and domain finders allow easy viewing of predicted peptide’s proper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411480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interfaces for assigning putative functions based on homology,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5975280" cy="27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342D-CB2F-4158-AD67-1D63C05F07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cking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24280" y="1206360"/>
            <a:ext cx="3810240" cy="321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809880" cy="1957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4394160"/>
            <a:ext cx="381024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7DAF-4BA6-4B6A-A4CD-A275EAA629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7:21:30Z</dcterms:created>
  <dc:creator>DOE JGI</dc:creator>
  <dc:description/>
  <cp:keywords>Presentation Generic</cp:keywords>
  <dc:language>en-US</dc:language>
  <cp:lastModifiedBy>DOE JGI</cp:lastModifiedBy>
  <cp:lastPrinted>2000-11-14T22:10:33Z</cp:lastPrinted>
  <dcterms:modified xsi:type="dcterms:W3CDTF">2004-04-26T19:07:38Z</dcterms:modified>
  <cp:revision>20</cp:revision>
  <dc:subject>Berkeley Lab Generic Presentation</dc:subject>
  <dc:title>PowerPoint Presentation</dc:title>
</cp:coreProperties>
</file>